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A677-6D04-410A-BEC1-278AFD53C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82B8-4EC9-4801-A208-6D0391767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9EC-53E2-4F1A-B7BC-C73440D2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8B7-A041-46C8-A9AA-44E8922F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1A9-2684-4F94-B2DF-C55B20F1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F06-67CA-4356-BAA2-BC55214B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C1C-4098-4363-8CF5-23602707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AC9-0AA1-4075-B5EE-777529C0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B06-C73B-4BC2-92EE-0DA40B54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444-E5FD-4020-B74C-55F769E6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798-C2B3-4291-B335-204D4837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82A0-2FA4-4405-A211-FEDD60AB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330-3C50-46B4-B830-F5B01A58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9D7-D8AA-45E8-8261-305E75B4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E2E0-1830-4EA9-927C-61C638DD9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arlene Luce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harlene Luc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36828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             232 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05320"/>
            <a:ext cx="203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Sharlene. Yo vivo en Nueva York. Yo tengo catorce años. Yo tengo 1  hermano.Yo soy amable y energi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lo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19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ti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10552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vi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Mar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Vamos a ir a en la tarde, Melody. Si alguien quiere a ir a con nosotros, pueden 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r a Baskin Robbins en Floral Park, Nueva York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elod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Sharlene! Yo voy contigo. ¿Cuando vamos a i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Decembre 7, de 2012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Shar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s!…. Quien quiere comprar helado conmigo ?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2hour ago.     Decembre 7,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Davi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Okay…Gracias! Gabriela y yo vamos en 3 horas porqué estamos lejos de Floral Park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Voy a agarrarmi telefoñ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 mi cami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   Mart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Ustedes van a ir en la tarde? Y hola Mari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¿Qué tal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Estoy bien.¿Y tú?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Voy a hacer mi tarea más tard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Y David, Recuerde que usted recoge su hermana de la escuela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Buenas Noches amigas! ¡Ya voy a dormir!!!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480966_10151124980887477_1105329441_n.jpg"/>
          <p:cNvPicPr/>
          <p:nvPr/>
        </p:nvPicPr>
        <p:blipFill>
          <a:blip r:embed="rId1"/>
          <a:stretch/>
        </p:blipFill>
        <p:spPr>
          <a:xfrm>
            <a:off x="152280" y="8380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9" descr="480966_10151124980887477_1105329441_n.jpg"/>
          <p:cNvPicPr/>
          <p:nvPr/>
        </p:nvPicPr>
        <p:blipFill>
          <a:blip r:embed="rId2"/>
          <a:stretch/>
        </p:blipFill>
        <p:spPr>
          <a:xfrm>
            <a:off x="2133720" y="24382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270100_128306570660437_2020124721_n.jpg"/>
          <p:cNvPicPr/>
          <p:nvPr/>
        </p:nvPicPr>
        <p:blipFill>
          <a:blip r:embed="rId3"/>
          <a:stretch/>
        </p:blipFill>
        <p:spPr>
          <a:xfrm>
            <a:off x="2133720" y="3124080"/>
            <a:ext cx="533160" cy="5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2344788_f260.jpg"/>
          <p:cNvPicPr/>
          <p:nvPr/>
        </p:nvPicPr>
        <p:blipFill>
          <a:blip r:embed="rId4"/>
          <a:stretch/>
        </p:blipFill>
        <p:spPr>
          <a:xfrm>
            <a:off x="2057400" y="3733920"/>
            <a:ext cx="609480" cy="633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2344788_f260.jpg"/>
          <p:cNvPicPr/>
          <p:nvPr/>
        </p:nvPicPr>
        <p:blipFill>
          <a:blip r:embed="rId5"/>
          <a:stretch/>
        </p:blipFill>
        <p:spPr>
          <a:xfrm>
            <a:off x="0" y="4495680"/>
            <a:ext cx="609480" cy="633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6" descr="270100_128306570660437_2020124721_n.jpg"/>
          <p:cNvPicPr/>
          <p:nvPr/>
        </p:nvPicPr>
        <p:blipFill>
          <a:blip r:embed="rId6"/>
          <a:stretch/>
        </p:blipFill>
        <p:spPr>
          <a:xfrm>
            <a:off x="762120" y="4495680"/>
            <a:ext cx="53316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558763_451286248263457_1770639403_n.jpg"/>
          <p:cNvPicPr/>
          <p:nvPr/>
        </p:nvPicPr>
        <p:blipFill>
          <a:blip r:embed="rId7"/>
          <a:stretch/>
        </p:blipFill>
        <p:spPr>
          <a:xfrm>
            <a:off x="1373040" y="4572000"/>
            <a:ext cx="53208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406796_224187064380476_1486548717_n.jpg"/>
          <p:cNvPicPr/>
          <p:nvPr/>
        </p:nvPicPr>
        <p:blipFill>
          <a:blip r:embed="rId8"/>
          <a:stretch/>
        </p:blipFill>
        <p:spPr>
          <a:xfrm>
            <a:off x="228600" y="5562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523647_271748989573753_1942422869_n.jpg"/>
          <p:cNvPicPr/>
          <p:nvPr/>
        </p:nvPicPr>
        <p:blipFill>
          <a:blip r:embed="rId9"/>
          <a:stretch/>
        </p:blipFill>
        <p:spPr>
          <a:xfrm>
            <a:off x="990720" y="5562720"/>
            <a:ext cx="711000" cy="5331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"/>
          <p:cNvSpPr/>
          <p:nvPr/>
        </p:nvSpPr>
        <p:spPr>
          <a:xfrm>
            <a:off x="1053720" y="6095880"/>
            <a:ext cx="64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558763_451286248263457_1770639403_n.jpg"/>
          <p:cNvPicPr/>
          <p:nvPr/>
        </p:nvPicPr>
        <p:blipFill>
          <a:blip r:embed="rId10"/>
          <a:stretch/>
        </p:blipFill>
        <p:spPr>
          <a:xfrm>
            <a:off x="2133720" y="4419720"/>
            <a:ext cx="531720" cy="53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406796_224187064380476_1486548717_n.jpg"/>
          <p:cNvPicPr/>
          <p:nvPr/>
        </p:nvPicPr>
        <p:blipFill>
          <a:blip r:embed="rId11"/>
          <a:stretch/>
        </p:blipFill>
        <p:spPr>
          <a:xfrm>
            <a:off x="2133720" y="5334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4" descr="2344788_f260.jpg"/>
          <p:cNvPicPr/>
          <p:nvPr/>
        </p:nvPicPr>
        <p:blipFill>
          <a:blip r:embed="rId12"/>
          <a:stretch/>
        </p:blipFill>
        <p:spPr>
          <a:xfrm>
            <a:off x="2133720" y="5943600"/>
            <a:ext cx="60948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8:34:28Z</dcterms:created>
  <dc:creator>FriscoISD</dc:creator>
  <dc:description/>
  <dc:language>en-US</dc:language>
  <cp:lastModifiedBy>Luceros family</cp:lastModifiedBy>
  <dcterms:modified xsi:type="dcterms:W3CDTF">2013-01-03T03:32:21Z</dcterms:modified>
  <cp:revision>112</cp:revision>
  <dc:subject/>
  <dc:title>Profile</dc:title>
</cp:coreProperties>
</file>